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2.jpeg" ContentType="image/jpeg"/>
  <Override PartName="/ppt/media/image7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47880" y="744120"/>
            <a:ext cx="4962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942624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ED78-A552-4C9C-A858-7D5FAA283A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47880" y="744480"/>
            <a:ext cx="496224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714560"/>
            <a:ext cx="548640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942660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7D45-5B90-41FE-8B77-B178067A2A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DD3F-C427-4415-8E75-58CB735C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FA94-893A-4D1F-AD0F-08EF19C5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CFCF-70ED-4EB5-9F87-52ABDF3C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F105-5C29-446F-AD72-5AE61473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722D-0EA6-4E1C-AB4E-11C84780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6D31-8691-4B96-9B97-8D792B27F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196E-4C96-4D44-8E2A-059235ED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50291-646A-4C61-82F5-52F06E3D8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6818-7234-4B4E-9801-E7B6B0BC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18C3-A811-4A57-A2FE-55B52A75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F23E-5AD1-4973-8A1A-C5DE710D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611-FC8B-4D9D-96A4-79C99EA4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7B297-8B08-4FBC-98DB-23A7BBA3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5820-598C-4CDC-9903-7EF3876D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17A86-88BD-44DE-A7D3-C5C542379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133C-28D7-45C4-81C6-B948A35E7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75340-6066-4988-B298-8ED4ED991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A0D5-0E21-42FE-B21E-7EE88629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C14-F623-4A45-80EB-0F82DC9E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58D9-20B4-4DA0-BA85-487B27726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C2D0-AB3D-4090-ADE8-473F35F0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EE76-05EC-4010-A173-29831397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8B88-4104-40ED-9084-0F0C7F0D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A530-4553-4C2B-B3EC-72885E12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EC41-DD1A-42C7-9D3A-61588854AA7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832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372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092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E0B9-5A97-44E2-BCA4-074DBE004D4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04E3E-6A05-4A27-9398-91A26A790C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iferquery.singlewindow.c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le 1"/>
          <p:cNvSpPr/>
          <p:nvPr/>
        </p:nvSpPr>
        <p:spPr>
          <a:xfrm>
            <a:off x="-1413000" y="1752480"/>
            <a:ext cx="11944440" cy="2546640"/>
          </a:xfrm>
          <a:prstGeom prst="ellipse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сновные полномочия Управления Россельхознадзора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 нарушения, выявляемые в ходе контрольно-надзорных мероприят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начение федеральной государственной информационной системы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ФГИС ППА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\\Sv-file\фото и видео\Герб_Россельхознадзора\rosselkhoznadzor_emb_n9361.jpg"/>
          <p:cNvPicPr/>
          <p:nvPr/>
        </p:nvPicPr>
        <p:blipFill>
          <a:blip r:embed="rId1"/>
          <a:stretch/>
        </p:blipFill>
        <p:spPr>
          <a:xfrm>
            <a:off x="569880" y="4446720"/>
            <a:ext cx="1673280" cy="179856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4343400" y="5370480"/>
            <a:ext cx="4040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Филимохин Валентин Серге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4343400" y="5745240"/>
            <a:ext cx="460692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меститель руководител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правления Россельхознадзора по Красноярскому кр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ижний колонтитул 3"/>
          <p:cNvSpPr/>
          <p:nvPr/>
        </p:nvSpPr>
        <p:spPr>
          <a:xfrm>
            <a:off x="2590920" y="139680"/>
            <a:ext cx="5478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33" name="TextBox 7"/>
          <p:cNvSpPr/>
          <p:nvPr/>
        </p:nvSpPr>
        <p:spPr>
          <a:xfrm>
            <a:off x="125280" y="496800"/>
            <a:ext cx="90010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нарушения при соблюдении требований Технического регламента «О безопасности зер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2"/>
          <p:cNvSpPr/>
          <p:nvPr/>
        </p:nvSpPr>
        <p:spPr>
          <a:xfrm>
            <a:off x="4986360" y="1773360"/>
            <a:ext cx="4140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4"/>
          <p:cNvSpPr/>
          <p:nvPr/>
        </p:nvSpPr>
        <p:spPr>
          <a:xfrm>
            <a:off x="4461480" y="3290760"/>
            <a:ext cx="221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080" rIns="91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X:\ОТДЕЛЫ\Отдел семеноводства\Внутренние\Общий Семена\ФОТО по проверкам\Зерно 2019\СПК Юбилейный\SAM_5304.JPG"/>
          <p:cNvPicPr/>
          <p:nvPr/>
        </p:nvPicPr>
        <p:blipFill>
          <a:blip r:embed="rId2"/>
          <a:stretch/>
        </p:blipFill>
        <p:spPr>
          <a:xfrm>
            <a:off x="6248520" y="3657600"/>
            <a:ext cx="2782800" cy="2652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7" name="Прямоугольник 1"/>
          <p:cNvSpPr/>
          <p:nvPr/>
        </p:nvSpPr>
        <p:spPr>
          <a:xfrm>
            <a:off x="125280" y="2743200"/>
            <a:ext cx="61232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мотр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7,8 тыс. тонн зер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нспектирова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2 партии объемом 161,5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вле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 партий некачественной продукции – 12,5  тыс. тон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ще всего фиксировались факты нарушен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стоверное декларирование соответствия зерна допустили  62  заявителя, в результате прекращено 132 декларации о соответств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 в обращение (реализация) зерна на единую Таможенную территорию без документов, подтверждающих безопасность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качество – 44 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рушение порядка реализации продукции – 3 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правил хранения зерна – 1 случа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367080" y="1946160"/>
          <a:ext cx="5624640" cy="1482840"/>
        </p:xfrm>
        <a:graphic>
          <a:graphicData uri="http://schemas.openxmlformats.org/drawingml/2006/table">
            <a:tbl>
              <a:tblPr/>
              <a:tblGrid>
                <a:gridCol w="1285920"/>
                <a:gridCol w="731880"/>
                <a:gridCol w="731880"/>
                <a:gridCol w="658800"/>
                <a:gridCol w="731880"/>
                <a:gridCol w="658800"/>
                <a:gridCol w="825480"/>
              </a:tblGrid>
              <a:tr h="33516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ействие деклар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19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8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уп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краще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семеноводств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40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41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43" name="Заголовок 1"/>
          <p:cNvSpPr/>
          <p:nvPr/>
        </p:nvSpPr>
        <p:spPr>
          <a:xfrm>
            <a:off x="582480" y="1143000"/>
            <a:ext cx="83422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ентября 2023 вступает в силу новый закон о семеноводстве  от 30.12.2021 № 454-Ф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елях реализации полномочий в области семеноводства сельскохозяйственных растений федеральным органом исполнительной власти, осуществляющим функци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ыработке государственной политики и нормативно-правовому регулированию в области семеноводства сельскохозяйственных растений, обеспечения прослеживаемости оборота семян сельскохозяйственных растений, автоматизации информирования юридических лиц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физических лиц, в том числе индивидуальных предпринимателей создается Федеральная государственная информационная система в сфере семеноводства сельскохозяйственных растений (ФГИС «Семеноводство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еменоводство» обеспечит получение актуальных сведений в сфере семеноводства в режиме реального времен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 охраняемых селекционных достижениях (сортах, гибридах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лекционных достижениях (сортах, гибридах), допущенных к использованию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кретном регионе возделывания или световой зо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аличии и качестве семян сельскохозяйственных растений, произведенных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Российской Федерации, предлагаемых к реализации производителем этих семя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еменах, завезенных на территорию Российской Федерации из-за рубеж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1"/>
          <p:cNvSpPr/>
          <p:nvPr/>
        </p:nvSpPr>
        <p:spPr>
          <a:xfrm>
            <a:off x="228600" y="3997440"/>
            <a:ext cx="86868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33520" y="1828800"/>
            <a:ext cx="7859520" cy="3989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39840" indent="-3398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иказ Минсельхоза России от 06.03.2020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 11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 утверждении порядка посева и посадки подкарантинной продукции, ввезенной в Российскую Федерацию из иностранных государств или групп иностранных государств, где выявлено распространение карантинных объектов, характерных для такой подкарантинной продукции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2C20-2E60-414D-B188-C251B51B243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978440" cy="41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314280" y="450720"/>
            <a:ext cx="8763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5"/>
          <p:cNvSpPr/>
          <p:nvPr/>
        </p:nvSpPr>
        <p:spPr>
          <a:xfrm>
            <a:off x="569880" y="138240"/>
            <a:ext cx="7682040" cy="431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ые нарушения требований земельного законодатель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38240" y="666720"/>
            <a:ext cx="8935920" cy="761400"/>
          </a:xfrm>
          <a:prstGeom prst="rect">
            <a:avLst/>
          </a:prstGeom>
          <a:noFill/>
          <a:ln w="0">
            <a:noFill/>
          </a:ln>
          <a:effectLst>
            <a:outerShdw dist="101823" dir="27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2021 году выявлено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,9 тыс. га земел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льскохозяйственного назначения,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используемых для сельскохозяйственного производства, зарастающих сорными растениями, деревьями, кустарникам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 предписаниям Управления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ельскохозяйственный оборот введено 5,7 тыс. г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ее неиспользуемых земел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833640" y="1508040"/>
          <a:ext cx="5227920" cy="2900520"/>
        </p:xfrm>
        <a:graphic>
          <a:graphicData uri="http://schemas.openxmlformats.org/drawingml/2006/table">
            <a:tbl>
              <a:tblPr/>
              <a:tblGrid>
                <a:gridCol w="5227920"/>
              </a:tblGrid>
              <a:tr h="284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бования нормативно-правовых ак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5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п. 3 ч.2 ст. 13, абз. 2, 4, ст. 42 Земельного Кодекса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6717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8  Федерального закона от 16.07.1998  № 101- ФЗ «О государственном регулировании обеспечения плодородия земель сельскохозяйственного назнач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. 25, 29, 29.1, 30, 32 Федерального закона Российской Федерации от 10.01.1996 № 4-ФЗ "О мелиорации земель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11811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млепользователи обязаны проводить мероприятия по защите сельскохозяйственных угодий от зарастания деревьями и кустарниками, сорными растениями, по сохранению мелиоративных защитных лесных насаждений, сохранению достигнутого уровня мелиораци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пользовать земельные участки в соответствии с их целевым назначе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Прямоугольник 13"/>
          <p:cNvSpPr/>
          <p:nvPr/>
        </p:nvSpPr>
        <p:spPr>
          <a:xfrm>
            <a:off x="138240" y="5506920"/>
            <a:ext cx="169056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тивный штра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ч. 2 ст. 8.8,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. 2 ст. 8.7 КоАП РФ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т 3 до 700 тыс. руб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0"/>
          <p:cNvSpPr/>
          <p:nvPr/>
        </p:nvSpPr>
        <p:spPr>
          <a:xfrm>
            <a:off x="4094280" y="5506920"/>
            <a:ext cx="3733560" cy="106956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удительное изъятие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фиксации государственным надзорным органом случаев неиспользования земельного участка в течение 3 лет подряд и более и неисполнения предписания об устранении нарушений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"/>
          <p:cNvSpPr/>
          <p:nvPr/>
        </p:nvSpPr>
        <p:spPr>
          <a:xfrm>
            <a:off x="569880" y="4408560"/>
            <a:ext cx="8035920" cy="40032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е указанных требований влеч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2001960" y="5506920"/>
            <a:ext cx="194940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налоговой ставк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1,5% от кадастровой стоимости земельного участк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8"/>
          <p:cNvSpPr/>
          <p:nvPr/>
        </p:nvSpPr>
        <p:spPr>
          <a:xfrm>
            <a:off x="7956720" y="5506920"/>
            <a:ext cx="968040" cy="1081080"/>
          </a:xfrm>
          <a:prstGeom prst="rect">
            <a:avLst/>
          </a:prstGeom>
          <a:solidFill>
            <a:srgbClr val="cbea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рочное расторжение договора арен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низ 37"/>
          <p:cNvSpPr/>
          <p:nvPr/>
        </p:nvSpPr>
        <p:spPr>
          <a:xfrm>
            <a:off x="8278920" y="4832280"/>
            <a:ext cx="347400" cy="646200"/>
          </a:xfrm>
          <a:prstGeom prst="downArrow">
            <a:avLst>
              <a:gd name="adj1" fmla="val 50000"/>
              <a:gd name="adj2" fmla="val 500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15" descr="C:\Users\babichenko\Desktop\Фото\Зарастание\DSC06353.JPG"/>
          <p:cNvPicPr/>
          <p:nvPr/>
        </p:nvPicPr>
        <p:blipFill>
          <a:blip r:embed="rId1"/>
          <a:stretch/>
        </p:blipFill>
        <p:spPr>
          <a:xfrm>
            <a:off x="152280" y="1600200"/>
            <a:ext cx="3567240" cy="2678040"/>
          </a:xfrm>
          <a:prstGeom prst="rect">
            <a:avLst/>
          </a:prstGeom>
          <a:ln w="0">
            <a:noFill/>
          </a:ln>
        </p:spPr>
      </p:pic>
      <p:sp>
        <p:nvSpPr>
          <p:cNvPr id="159" name="Стрелка вниз 15"/>
          <p:cNvSpPr/>
          <p:nvPr/>
        </p:nvSpPr>
        <p:spPr>
          <a:xfrm>
            <a:off x="578628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низ 16"/>
          <p:cNvSpPr/>
          <p:nvPr/>
        </p:nvSpPr>
        <p:spPr>
          <a:xfrm>
            <a:off x="80964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низ 18"/>
          <p:cNvSpPr/>
          <p:nvPr/>
        </p:nvSpPr>
        <p:spPr>
          <a:xfrm>
            <a:off x="2781360" y="4832280"/>
            <a:ext cx="347760" cy="646200"/>
          </a:xfrm>
          <a:prstGeom prst="downArrow">
            <a:avLst>
              <a:gd name="adj1" fmla="val 50000"/>
              <a:gd name="adj2" fmla="val 4999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5"/>
          <p:cNvSpPr/>
          <p:nvPr/>
        </p:nvSpPr>
        <p:spPr>
          <a:xfrm>
            <a:off x="324000" y="103320"/>
            <a:ext cx="8453160" cy="64764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 в области безопасного обращ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естицидами и агрохимика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TextBox 6"/>
          <p:cNvGrpSpPr/>
          <p:nvPr/>
        </p:nvGrpSpPr>
        <p:grpSpPr>
          <a:xfrm>
            <a:off x="249120" y="768240"/>
            <a:ext cx="8736120" cy="1346400"/>
            <a:chOff x="249120" y="768240"/>
            <a:chExt cx="8736120" cy="1346400"/>
          </a:xfrm>
        </p:grpSpPr>
        <p:pic>
          <p:nvPicPr>
            <p:cNvPr id="164" name="TextBox 6" descr=""/>
            <p:cNvPicPr/>
            <p:nvPr/>
          </p:nvPicPr>
          <p:blipFill>
            <a:blip r:embed="rId1"/>
            <a:stretch/>
          </p:blipFill>
          <p:spPr>
            <a:xfrm>
              <a:off x="249120" y="768240"/>
              <a:ext cx="8736120" cy="13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324000" y="838080"/>
              <a:ext cx="8453160" cy="10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ыявлены нарушения регламентов применения пестицидов и агрохимикатов на площади 5,2 тыс. га: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именение пестицидов, не разрешенных на территории РФ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арушение норм (доз) внесения агрохимикатов;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неоповещение населения об обработке полей пестицидами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67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9" name="Рисунок 8" descr="C:\Users\babichenko\Desktop\впап.png"/>
          <p:cNvPicPr/>
          <p:nvPr/>
        </p:nvPicPr>
        <p:blipFill>
          <a:blip r:embed="rId3"/>
          <a:stretch/>
        </p:blipFill>
        <p:spPr>
          <a:xfrm>
            <a:off x="6191280" y="1935000"/>
            <a:ext cx="2585880" cy="21006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9" descr="DSC07688"/>
          <p:cNvPicPr/>
          <p:nvPr/>
        </p:nvPicPr>
        <p:blipFill>
          <a:blip r:embed="rId4"/>
          <a:stretch/>
        </p:blipFill>
        <p:spPr>
          <a:xfrm>
            <a:off x="395280" y="1935000"/>
            <a:ext cx="2698920" cy="210060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10" descr="DSC07682"/>
          <p:cNvPicPr/>
          <p:nvPr/>
        </p:nvPicPr>
        <p:blipFill>
          <a:blip r:embed="rId5"/>
          <a:stretch/>
        </p:blipFill>
        <p:spPr>
          <a:xfrm>
            <a:off x="6191280" y="4219560"/>
            <a:ext cx="2585880" cy="21099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1" descr="DSC07618"/>
          <p:cNvPicPr/>
          <p:nvPr/>
        </p:nvPicPr>
        <p:blipFill>
          <a:blip r:embed="rId6"/>
          <a:stretch/>
        </p:blipFill>
        <p:spPr>
          <a:xfrm>
            <a:off x="3252960" y="1935000"/>
            <a:ext cx="2769840" cy="21006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2" descr="DSC00473"/>
          <p:cNvPicPr/>
          <p:nvPr/>
        </p:nvPicPr>
        <p:blipFill>
          <a:blip r:embed="rId7"/>
          <a:stretch/>
        </p:blipFill>
        <p:spPr>
          <a:xfrm>
            <a:off x="395280" y="4219560"/>
            <a:ext cx="2698920" cy="21099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3" descr="DSC00478"/>
          <p:cNvPicPr/>
          <p:nvPr/>
        </p:nvPicPr>
        <p:blipFill>
          <a:blip r:embed="rId8"/>
          <a:stretch/>
        </p:blipFill>
        <p:spPr>
          <a:xfrm>
            <a:off x="3289320" y="4219560"/>
            <a:ext cx="273348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5"/>
          <p:cNvSpPr/>
          <p:nvPr/>
        </p:nvSpPr>
        <p:spPr>
          <a:xfrm>
            <a:off x="127080" y="163440"/>
            <a:ext cx="8878680" cy="914400"/>
          </a:xfrm>
          <a:prstGeom prst="rect">
            <a:avLst/>
          </a:prstGeom>
          <a:noFill/>
          <a:ln w="0">
            <a:noFill/>
          </a:ln>
          <a:effectLst>
            <a:outerShdw dist="228593" dir="2700000" blurRad="0" rotWithShape="0">
              <a:srgbClr val="000000">
                <a:alpha val="2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создания и задачи Федеральной государственной информационной системы прослеживаемости пестицид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агрохимикатов (ФГИС 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Прямоугольник 17"/>
          <p:cNvGrpSpPr/>
          <p:nvPr/>
        </p:nvGrpSpPr>
        <p:grpSpPr>
          <a:xfrm>
            <a:off x="128520" y="6345360"/>
            <a:ext cx="3589560" cy="164880"/>
            <a:chOff x="128520" y="6345360"/>
            <a:chExt cx="3589560" cy="164880"/>
          </a:xfrm>
        </p:grpSpPr>
        <p:pic>
          <p:nvPicPr>
            <p:cNvPr id="177" name="Прямоугольник 17" descr=""/>
            <p:cNvPicPr/>
            <p:nvPr/>
          </p:nvPicPr>
          <p:blipFill>
            <a:blip r:embed="rId1"/>
            <a:stretch/>
          </p:blipFill>
          <p:spPr>
            <a:xfrm>
              <a:off x="129600" y="6346800"/>
              <a:ext cx="3586680" cy="16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28520" y="6345360"/>
              <a:ext cx="358956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Прямоугольник 3"/>
          <p:cNvSpPr/>
          <p:nvPr/>
        </p:nvSpPr>
        <p:spPr>
          <a:xfrm>
            <a:off x="415800" y="174960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законом № 522-ФЗ в ред. от 28.06.2021 № 221-ФЗ внесены изменения в Федеральный закон от 19.07.1997 № 109-ФЗ «О безопасном обращении с пестицидами и агрохимикатами», в частности, закон дополнен ст. 15.2 о создании Федеральной государственной информационной системы прослеживаемости пестицидов и агрохимикатов (ФГИС ППА), которая вступает в силу с 1 июля 2022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2"/>
          <p:cNvSpPr/>
          <p:nvPr/>
        </p:nvSpPr>
        <p:spPr>
          <a:xfrm>
            <a:off x="415800" y="3244680"/>
            <a:ext cx="849636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ППА создается в целях обеспечения учета партий пестицидов и агрохимикатов при их обращении (производстве (изготовлении), хранении, перевозке (транспортировке), применении, реализации, обезвреживании, утилизации, уничтожении и захоронении), а также осуществления анализа, обработки представленных в ней сведений и информации и контроля за достоверностью таких сведений и информ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4"/>
          <p:cNvSpPr/>
          <p:nvPr/>
        </p:nvSpPr>
        <p:spPr>
          <a:xfrm>
            <a:off x="415800" y="4681440"/>
            <a:ext cx="8498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леживаемость пестицидов и агрохимикатов обеспечивается с момента их ввода в обращение производство или ввоз на территорию Российской Федерации (оформление электронных производственных сертификатов или гашение импортных электронных сертификатов) до момента вывода из обращения – вывоза с территории РФ, применения, розничной реализации гражданам для ведения личного подсобного хозяйства, обезвреживания, утилизации, уничтожения и захоронения (оформление электронных актов вывода из обращения с указанием способа вывод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рослеживаемости пестицидов и агрохимикатов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ФГИС «Сатурн»</a:t>
            </a:r>
            <a:endParaRPr b="0" lang="en-US" sz="22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83" name="Прямоугольник 4"/>
          <p:cNvSpPr/>
          <p:nvPr/>
        </p:nvSpPr>
        <p:spPr>
          <a:xfrm>
            <a:off x="903240" y="1434960"/>
            <a:ext cx="233532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рубежное предприятие-поставщ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5"/>
          <p:cNvSpPr/>
          <p:nvPr/>
        </p:nvSpPr>
        <p:spPr>
          <a:xfrm>
            <a:off x="893880" y="2573280"/>
            <a:ext cx="233352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нкт пропуска через государственную границу Р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6"/>
          <p:cNvSpPr/>
          <p:nvPr/>
        </p:nvSpPr>
        <p:spPr>
          <a:xfrm>
            <a:off x="893880" y="3639960"/>
            <a:ext cx="2333520" cy="719640"/>
          </a:xfrm>
          <a:prstGeom prst="rect">
            <a:avLst/>
          </a:prstGeom>
          <a:solidFill>
            <a:srgbClr val="c8e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временного хран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7"/>
          <p:cNvSpPr/>
          <p:nvPr/>
        </p:nvSpPr>
        <p:spPr>
          <a:xfrm>
            <a:off x="873000" y="4605480"/>
            <a:ext cx="2333880" cy="1145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ад получателя пестицидов и агрохимика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оугольник 9"/>
          <p:cNvSpPr/>
          <p:nvPr/>
        </p:nvSpPr>
        <p:spPr>
          <a:xfrm>
            <a:off x="5557680" y="1454040"/>
            <a:ext cx="2387880" cy="810360"/>
          </a:xfrm>
          <a:prstGeom prst="rect">
            <a:avLst/>
          </a:prstGeom>
          <a:solidFill>
            <a:srgbClr val="c9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тель пестицидов и агрохимикатов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оугольник 10"/>
          <p:cNvSpPr/>
          <p:nvPr/>
        </p:nvSpPr>
        <p:spPr>
          <a:xfrm>
            <a:off x="5557680" y="2616120"/>
            <a:ext cx="2386080" cy="719640"/>
          </a:xfrm>
          <a:prstGeom prst="rect">
            <a:avLst/>
          </a:prstGeom>
          <a:solidFill>
            <a:srgbClr val="edf3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1"/>
          <p:cNvSpPr/>
          <p:nvPr/>
        </p:nvSpPr>
        <p:spPr>
          <a:xfrm>
            <a:off x="888840" y="5883120"/>
            <a:ext cx="2333880" cy="719640"/>
          </a:xfrm>
          <a:prstGeom prst="rect">
            <a:avLst/>
          </a:prstGeom>
          <a:solidFill>
            <a:srgbClr val="cafb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ничный скл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Стрелка вправо 27"/>
          <p:cNvSpPr/>
          <p:nvPr/>
        </p:nvSpPr>
        <p:spPr>
          <a:xfrm>
            <a:off x="3463920" y="6035760"/>
            <a:ext cx="861840" cy="201600"/>
          </a:xfrm>
          <a:prstGeom prst="rightArrow">
            <a:avLst>
              <a:gd name="adj1" fmla="val 50000"/>
              <a:gd name="adj2" fmla="val 49994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C:\Users\babichenko\Desktop\Сайт\Итоги\Фото овощеводы\DSC00328.JPG"/>
          <p:cNvPicPr/>
          <p:nvPr/>
        </p:nvPicPr>
        <p:blipFill>
          <a:blip r:embed="rId1"/>
          <a:stretch/>
        </p:blipFill>
        <p:spPr>
          <a:xfrm>
            <a:off x="4700520" y="4175280"/>
            <a:ext cx="3498840" cy="2597040"/>
          </a:xfrm>
          <a:prstGeom prst="rect">
            <a:avLst/>
          </a:prstGeom>
          <a:ln w="0">
            <a:noFill/>
          </a:ln>
        </p:spPr>
      </p:pic>
      <p:sp>
        <p:nvSpPr>
          <p:cNvPr id="192" name="Стрелка вниз 3081"/>
          <p:cNvSpPr/>
          <p:nvPr/>
        </p:nvSpPr>
        <p:spPr>
          <a:xfrm>
            <a:off x="6810480" y="3395520"/>
            <a:ext cx="187200" cy="621000"/>
          </a:xfrm>
          <a:prstGeom prst="downArrow">
            <a:avLst>
              <a:gd name="adj1" fmla="val 50000"/>
              <a:gd name="adj2" fmla="val 5005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Стрелка вниз 3082"/>
          <p:cNvSpPr/>
          <p:nvPr/>
        </p:nvSpPr>
        <p:spPr>
          <a:xfrm>
            <a:off x="6810480" y="230364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Стрелка вниз 43"/>
          <p:cNvSpPr/>
          <p:nvPr/>
        </p:nvSpPr>
        <p:spPr>
          <a:xfrm>
            <a:off x="1941480" y="2303640"/>
            <a:ext cx="192240" cy="269640"/>
          </a:xfrm>
          <a:prstGeom prst="downArrow">
            <a:avLst>
              <a:gd name="adj1" fmla="val 50000"/>
              <a:gd name="adj2" fmla="val 499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Стрелка вниз 44"/>
          <p:cNvSpPr/>
          <p:nvPr/>
        </p:nvSpPr>
        <p:spPr>
          <a:xfrm>
            <a:off x="1944720" y="3370320"/>
            <a:ext cx="190440" cy="2696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Стрелка вниз 45"/>
          <p:cNvSpPr/>
          <p:nvPr/>
        </p:nvSpPr>
        <p:spPr>
          <a:xfrm>
            <a:off x="1944720" y="4394160"/>
            <a:ext cx="190440" cy="26820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Стрелка вниз 46"/>
          <p:cNvSpPr/>
          <p:nvPr/>
        </p:nvSpPr>
        <p:spPr>
          <a:xfrm>
            <a:off x="1944720" y="5580000"/>
            <a:ext cx="190440" cy="27000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Соединительная линия уступом 3084"/>
          <p:cNvCxnSpPr/>
          <p:nvPr/>
        </p:nvCxnSpPr>
        <p:spPr>
          <a:xfrm flipV="1">
            <a:off x="3463560" y="2993400"/>
            <a:ext cx="1857960" cy="1872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324000" y="152280"/>
            <a:ext cx="8619840" cy="10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система прослеживаемости пестицидов и агрохимикатов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озданная в целях обеспечения учета партий пестицидов и агрохимикатов при  их обращении (производстве, хранении, перевозке, применении, реализации, обезвреживании, утилизации, уничтожении и захоронении)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ла название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ГИС «Сатур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8"/>
          <p:cNvSpPr/>
          <p:nvPr/>
        </p:nvSpPr>
        <p:spPr>
          <a:xfrm>
            <a:off x="325440" y="5845320"/>
            <a:ext cx="881856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ажно!!!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июля 2022 год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ующие субъекты, не зарегистрированные в ИС «Сатурн»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могут осуществлять обращение пестицидов и агрохимикатов на территории Российской Федерац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12640" y="1693800"/>
          <a:ext cx="8242560" cy="4173480"/>
        </p:xfrm>
        <a:graphic>
          <a:graphicData uri="http://schemas.openxmlformats.org/drawingml/2006/table">
            <a:tbl>
              <a:tblPr/>
              <a:tblGrid>
                <a:gridCol w="1994040"/>
                <a:gridCol w="6248520"/>
              </a:tblGrid>
              <a:tr h="1463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то должен зарегистрироваться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ИС «Сатурн»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идические лица и индивидуальные предприниматели, осуществляющие производство, хранение, перевозку, применение, реализацию, обезвреживание, утилизацию, уничтожение и захоронение пестицидов и агрохимикатов (ст.15.2 Федерального закона 109-ФЗ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 безопасном обращении с пестицидами и агрохимикатами» (вступает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илу 01.07.2022)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  <a:tr h="214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о необходимо сделать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накомиться на официальном сайте Россельхознадзора 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fsvps.gov.ru</a:t>
                      </a:r>
                      <a:r>
                        <a:rPr b="0" lang="ru-RU" sz="15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)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порядком регистрации хозяйствующих субъектов в ИС «Сатурн»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чать форму заявления.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ести в заявление сведения об организации, местах ведения деятельности, видах объектов и видах деятельности, сведения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 уполномоченных лицах организаций, лицах, которые будут осуществлять электронную сертификацию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99880" indent="-2998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ить в Управление Россельхознадзора заявление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установленной форме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и подачи заяв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ем заявок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регистрации в ИС «Сатурн» </a:t>
                      </a: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ется уже сейчас </a:t>
                      </a:r>
                      <a:br>
                        <a:rPr sz="1500"/>
                      </a:b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1 июля 2021 г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f4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8040" y="274320"/>
            <a:ext cx="7573680" cy="93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ущая ситуация с регистрацией хозяйствующих субъектов в ФГИС «Сатурн» </a:t>
            </a:r>
            <a:br>
              <a:rPr sz="17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состоянию на 04.04.2022)</a:t>
            </a:r>
            <a:endParaRPr b="0" lang="en-US" sz="12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883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741240" y="2362320"/>
            <a:ext cx="8066160" cy="31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озникающим вопросам просим обращать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расноярск (тел. 8 (391) 22-66-90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Назарово (тел. 8 (39155) 7-22-45)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Минусинск (тел. 8 (39132) 5-15-31)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анск (тел. 8 (39161) 9-00-27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ная почта (krasn.zemkontrol@mail.ru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76a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5" name="Прямоугольник 11"/>
          <p:cNvSpPr/>
          <p:nvPr/>
        </p:nvSpPr>
        <p:spPr>
          <a:xfrm>
            <a:off x="369720" y="609480"/>
            <a:ext cx="821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нтинные фитосанитарные зоны по вредителя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ьскохозяйственных культу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51000" y="1752480"/>
          <a:ext cx="8542080" cy="4800600"/>
        </p:xfrm>
        <a:graphic>
          <a:graphicData uri="http://schemas.openxmlformats.org/drawingml/2006/table">
            <a:tbl>
              <a:tblPr/>
              <a:tblGrid>
                <a:gridCol w="3135240"/>
                <a:gridCol w="2663640"/>
                <a:gridCol w="1274760"/>
                <a:gridCol w="1468440"/>
              </a:tblGrid>
              <a:tr h="322200"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ние карантинного объект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дминистративны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 год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КФЗ (шт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5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щая площадь (га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екомы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адный цветочный трипс                                            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rankliniella occidentalis (Pergande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5044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точная плодожорка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pholita molesta (Busck)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Красноярск, Минусинский район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те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868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илики (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scuta spp.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в т.ч. повилика европейская, повилика хмелевидная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 районов, 3 гор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5 млн.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 gridSpan="4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мат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920">
                <a:tc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истая картофельная немато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Globodera rostochiensis Behren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2021 году на территории Красноярского края упразднены все карантинные фитосанитарные зоны (113 зон) и отменен карантинный фитосанитарный режим по золотистой картофельной нематоде на площади 9,1 тыс. г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99" name="Прямоугольник 1"/>
          <p:cNvSpPr/>
          <p:nvPr/>
        </p:nvSpPr>
        <p:spPr>
          <a:xfrm>
            <a:off x="3287880" y="907920"/>
            <a:ext cx="56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орт зерна и рап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"/>
          <p:cNvSpPr/>
          <p:nvPr/>
        </p:nvSpPr>
        <p:spPr>
          <a:xfrm>
            <a:off x="0" y="538200"/>
            <a:ext cx="354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з зерна и рапса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и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287880" y="1676520"/>
          <a:ext cx="5630760" cy="4572000"/>
        </p:xfrm>
        <a:graphic>
          <a:graphicData uri="http://schemas.openxmlformats.org/drawingml/2006/table">
            <a:tbl>
              <a:tblPr/>
              <a:tblGrid>
                <a:gridCol w="1374480"/>
                <a:gridCol w="754200"/>
                <a:gridCol w="830160"/>
                <a:gridCol w="679680"/>
                <a:gridCol w="677880"/>
                <a:gridCol w="679320"/>
                <a:gridCol w="635040"/>
              </a:tblGrid>
              <a:tr h="618840"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тр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р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dfa1"/>
                    </a:solidFill>
                  </a:tcPr>
                </a:tc>
              </a:tr>
              <a:tr h="4125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8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,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Н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592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ларус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ргиз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0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ербайдж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бекист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73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х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6540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152280" y="1676520"/>
          <a:ext cx="3019680" cy="4549680"/>
        </p:xfrm>
        <a:graphic>
          <a:graphicData uri="http://schemas.openxmlformats.org/drawingml/2006/table">
            <a:tbl>
              <a:tblPr/>
              <a:tblGrid>
                <a:gridCol w="1266840"/>
                <a:gridCol w="914400"/>
                <a:gridCol w="838440"/>
              </a:tblGrid>
              <a:tr h="5824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проду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ше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5,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1,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чме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,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,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ве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ж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ечи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ро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п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3,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,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812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24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укты перерабо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62,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29,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ременный запрет на вывоз зерновых культур за пределы территории РФ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9000"/>
          </a:bodyPr>
          <a:p>
            <a:pPr indent="45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постановлениям Правительства РФ от 14.03.2022 N 362 «О введении временного запрета на вывоз зерновых культур за пределы территории Российской Федерации», а также Постановлением Правительства от 31.03.2022 № 529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 С 15 марта по 30 июня 2022 г. установлен временный запрет на вывоз из Российской Федерации пшеницы и меслина, ржи, ячменя и кукуруз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й запрет не распространяет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рновые культуры, вывозимые с территории Российской Федерации в качестве припас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для оказания международной гуманитарной помощи иностранным государствам на основании решений Правительства Российской Федер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у Абхазия, Республику Южная Осетия, Донецкую Народную Республику и Луганскую Народную Республик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ании разовых лицензий на экспорт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ыданных Министерством промышленности и торговли Российской Федерац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 зерновые культуры, вывозимые с территории Российской Федерации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ублику Белоруссию в рамках Союзного государств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С 1 апреля по 31 августа установлен запрет на вывоз рапса и подсолнечни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мена рапса и подсолнечника, вывозимые с территории Российской Федерации в государства - члены Евразийского экономического союз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емена рапса и подсолнечника, вывозимые с территории Российской Федерации в Республику Абхазия, Республику Южная Осетия, Донецкую Народную Республику и Луганскую Народную Республик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452520"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4525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aphicFrame>
        <p:nvGraphicFramePr>
          <p:cNvPr id="107" name=""/>
          <p:cNvGraphicFramePr/>
          <p:nvPr/>
        </p:nvGraphicFramePr>
        <p:xfrm>
          <a:off x="457200" y="1523880"/>
          <a:ext cx="8280360" cy="4927680"/>
        </p:xfrm>
        <a:graphic>
          <a:graphicData uri="http://schemas.openxmlformats.org/drawingml/2006/table">
            <a:tbl>
              <a:tblPr/>
              <a:tblGrid>
                <a:gridCol w="720720"/>
                <a:gridCol w="4141800"/>
                <a:gridCol w="3417840"/>
              </a:tblGrid>
              <a:tr h="3384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меро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cca62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семя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посе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281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посев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начала убор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тинное фитосанитарное обеззараживание мест хран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ниторинг зернохранилищ, в том числе с использованием феромонных ловуш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закладкой на хранение и 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34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ки в ИС Цербер на включение в списки разрешенных пред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проведения мониторинговых мероприят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5605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следование (аттестация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дней с даты подачи заявки в ИС Церб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ая фитосанитарная экспертиза хранящегося зер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роцессе хран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  <a:tr h="841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тосанитарная экспертиза партий зерна и транспортных средств, подготовленных к погрузк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погрузкой в транспортное сред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0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ача заявления на ФС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1160"/>
                          <a:tab algn="l" pos="1822320"/>
                          <a:tab algn="l" pos="2733840"/>
                          <a:tab algn="l" pos="3645000"/>
                          <a:tab algn="l" pos="4556160"/>
                          <a:tab algn="l" pos="5467320"/>
                          <a:tab algn="l" pos="6378480"/>
                          <a:tab algn="l" pos="7289640"/>
                          <a:tab algn="l" pos="8201160"/>
                          <a:tab algn="l" pos="9112320"/>
                          <a:tab algn="l" pos="10023480"/>
                          <a:tab algn="l" pos="1093464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д отправкой на эк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6ea"/>
                    </a:solidFill>
                  </a:tcPr>
                </a:tc>
              </a:tr>
            </a:tbl>
          </a:graphicData>
        </a:graphic>
      </p:graphicFrame>
      <p:sp>
        <p:nvSpPr>
          <p:cNvPr id="108" name="Rectangle 1"/>
          <p:cNvSpPr/>
          <p:nvPr/>
        </p:nvSpPr>
        <p:spPr>
          <a:xfrm>
            <a:off x="684360" y="567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роприятия для экспорта зерна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1" name="Rectangle 1"/>
          <p:cNvSpPr/>
          <p:nvPr/>
        </p:nvSpPr>
        <p:spPr>
          <a:xfrm>
            <a:off x="684360" y="7797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Изменения при экспорте в Ки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язи с вступлением в силу Приказа Главного таможенного управления Китая № 248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 января 2022 год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е ведомство Китая ведет списки зарегистрированных компаний-производителей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евой муки, рисовой муки, муки из сушеных бобовых, пшеничной муки, пищевых растительных масел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экспорта в Китай  муки и растительного масла, хозяйствующему субъекту необходимо самостоятельно зарегистрироваться и подать заявку в систему Единого окна ГТУ Китая по ссылке: </a:t>
            </a:r>
            <a:r>
              <a:rPr b="0" lang="ru-RU" sz="1400" spc="-1" strike="noStrike" u="sng">
                <a:solidFill>
                  <a:srgbClr val="f49100"/>
                </a:solidFill>
                <a:uFillTx/>
                <a:latin typeface="Times New Roman"/>
                <a:ea typeface="Times New Roman"/>
                <a:hlinkClick r:id="rId2"/>
              </a:rPr>
              <a:t>www.ciferquery.singlewindow.c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ство пользователя для самостоятельной регистрации на Портале Главного таможенного управления Китая, размещено на официальном сайте Россельхознадзора в разделе «Ввоз.Вывоз.Транзит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 компетентным органом страны производства продукции не требуется. При возникновении технических вопросов обращаться в ГТУ КНР по телефону: +86-10-6519-4187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НР разрешен экспорт из РФ следующих видов зерновых: пшеница, ячмень, рапс, кукуруза, рис, соя, гречиха/крупа гречневая, овес/овсяные хлопья, семена подсолнечника, семена льна, соевый, рапсовый, подсолнечный шроты, жмыхи и свекловичный жо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4 февраля 2022 года между Россельхознадзором и ГТУ КНР подписаны дополнения к протоколам о фитосанитарных требованиях к пшенице и ячменю, экспортируемым из Российской Федерации в Китайскую Народную Республику, позволяющие начать осуществлять поставки данной продукции из всех регионов Российской Федерации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400" indent="-329400"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ижний колонтитул 3"/>
          <p:cNvSpPr/>
          <p:nvPr/>
        </p:nvSpPr>
        <p:spPr>
          <a:xfrm>
            <a:off x="3419640" y="139680"/>
            <a:ext cx="4649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262673"/>
                </a:solidFill>
                <a:latin typeface="Arial"/>
              </a:rPr>
              <a:t>УПРАВЛЕНИЕ РОССЕЛЬХОЗНАДЗОРА ПО КРАСНОЯРСКОМУ КРАЮ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C:\Documents and Settings\popova.KRSHN\Рабочий стол\герб РСХН\герб россельхознадзора3.gif"/>
          <p:cNvPicPr/>
          <p:nvPr/>
        </p:nvPicPr>
        <p:blipFill>
          <a:blip r:embed="rId1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15" name="Прямоугольник 5"/>
          <p:cNvSpPr/>
          <p:nvPr/>
        </p:nvSpPr>
        <p:spPr>
          <a:xfrm>
            <a:off x="1992240" y="6858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при эксп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5000"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оответствии с Порядком выдачи фитосанитарного сертификата, реэкспортного фитосанитарного сертификата, карантинного сертификата, утвержденного приказом Минсельхоза России от 13.07.2016 № 293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СС может быть переоформлен в течение срока действия сертификата, а также если срок действия ФСС истек не более одного раза без проведения дополнительных исследований, при условии сохранения целостности партии, в регионе деятельности которого находится перевозимая подкарантинная продукция, в течение 1 рабочего дн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оформление ФСС допускается во время нахождения в пути партии подкарантинной продукции. Переоформленный ФСС выдается в пунктах пропуска через государственную границу Российской Федерации после проведения должностным лицом территориального подразделения уполномоченного органа, на территории которого расположено место убытия, осмотра партии подкарантинной продукции на предмет сохранения целостности парт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ие о необходимости переоформления может быть подано письменно, в электронной форме или любым доступным способом, в том числе во время нахождения партии подкарантинной продукции в п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за перемещением партии подкарантинной продукции до момента пересечения границы осуществляют сами  хозяйствующие субъект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6200" y="3967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е в законодательстве в области безопасност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ачества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18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19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1" name="Заголовок 1"/>
          <p:cNvSpPr/>
          <p:nvPr/>
        </p:nvSpPr>
        <p:spPr>
          <a:xfrm>
            <a:off x="15228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609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304920" y="1728000"/>
            <a:ext cx="8588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РФ от 14.05.1993 N 4973-1 (ред. от 28.06.2021) «О зерне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19.06.2021 N 936 "О порядке регистрации, приостановления, возобновления и прекращения действия деклараций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оответствии, признания их недействительными и порядке приостановления, возобновления и прекращения действия сертификатов соответствия, признания их недействительными» - 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- 21.06.2021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2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 федеральной государственной информационной системе прослеживаемости зерна и продуктов переработки зерна»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13.10.2021 (за исключением отдельных положений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Правительства РФ от 9 октября 2021 г. N 1721 «Об утверждении правил оформления товаросопроводительного документа на партию зерна и партию продуктов переработки зерна в федеральной государственной информационной системе прослеживаемости зерна и продуктов переработки зерна 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чало действия документа – 01.09.20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2880"/>
            <a:ext cx="9144000" cy="1476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и начнет действовать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ая государственная информационна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прослеживаемости зерна</a:t>
            </a:r>
            <a:endParaRPr b="0" lang="en-US" sz="2400" spc="-1" strike="noStrike">
              <a:solidFill>
                <a:srgbClr val="04617b"/>
              </a:solidFill>
              <a:latin typeface="Arial"/>
            </a:endParaRPr>
          </a:p>
        </p:txBody>
      </p:sp>
      <p:pic>
        <p:nvPicPr>
          <p:cNvPr id="124" name="Содержимое 5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3786120" cy="14616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6"/>
          <p:cNvSpPr/>
          <p:nvPr/>
        </p:nvSpPr>
        <p:spPr>
          <a:xfrm>
            <a:off x="2286000" y="142920"/>
            <a:ext cx="5715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f6fc6"/>
                </a:solidFill>
                <a:latin typeface="Arial"/>
                <a:ea typeface="Times New Roman"/>
              </a:rPr>
              <a:t>УПРАВЛЕНИЕ РОССЕЛЬХОЗНАДЗОРА ПО КРАСНОЯРСКОМУ КРА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" descr="C:\Documents and Settings\popova.KRSHN\Рабочий стол\герб РСХН\герб россельхознадзора3.gif"/>
          <p:cNvPicPr/>
          <p:nvPr/>
        </p:nvPicPr>
        <p:blipFill>
          <a:blip r:embed="rId2"/>
          <a:stretch/>
        </p:blipFill>
        <p:spPr>
          <a:xfrm>
            <a:off x="8317080" y="196920"/>
            <a:ext cx="576000" cy="6001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27" name="Rectangle 11"/>
          <p:cNvSpPr/>
          <p:nvPr/>
        </p:nvSpPr>
        <p:spPr>
          <a:xfrm>
            <a:off x="228600" y="3997440"/>
            <a:ext cx="4267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marL="22860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8" descr="C:\Users\konoplyankina\Desktop\DSC01318.JPG"/>
          <p:cNvPicPr/>
          <p:nvPr/>
        </p:nvPicPr>
        <p:blipFill>
          <a:blip r:embed="rId3"/>
          <a:stretch/>
        </p:blipFill>
        <p:spPr>
          <a:xfrm>
            <a:off x="5334120" y="4803840"/>
            <a:ext cx="3809880" cy="182880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3"/>
          <p:cNvSpPr/>
          <p:nvPr/>
        </p:nvSpPr>
        <p:spPr>
          <a:xfrm>
            <a:off x="304920" y="2333520"/>
            <a:ext cx="8300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 сист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еремещений партий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ведений о потребительских свойствах зерна и продуктов его переработ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сопроводительных документов для идентификации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возврате/ утилизации партии зерна, обладающего опасными свойств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находящихся на хранении или в переработке партий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б экспорте – импорте зер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информации о закупке партий зерна и партий продуктов переработки зерна для государственных нуж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228600" y="17496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следить жизненный цикл продукции от момента ее производства до выпуска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ращение, а также сформировать систему контроля качества выращенного зер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05:58:40Z</dcterms:created>
  <dc:creator>Рыбакова Л.</dc:creator>
  <dc:description/>
  <dc:language>en-US</dc:language>
  <cp:lastModifiedBy>Филимохин Валентин Сергеевич</cp:lastModifiedBy>
  <cp:lastPrinted>2021-02-11T03:59:45Z</cp:lastPrinted>
  <dcterms:modified xsi:type="dcterms:W3CDTF">2022-04-05T02:38:33Z</dcterms:modified>
  <cp:revision>9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